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5F9-25DC-4C9C-BCEF-449581699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9BD0-002D-4CBB-AADE-7F4997B08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5DC6-44C4-4C00-AFC8-FBB1984D9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C79E-2767-48C7-8CA2-C77DEF8E6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A7E-3293-4AF4-B503-C7DBB8C87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75F-B22A-4257-90E4-C826214C1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8732-9DA6-4964-AF1C-A1BBFD90B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6E9-2D38-4B18-B53C-66163C469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7C8-AD4A-4488-9E34-D3E71D3D0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8895-2591-48DC-8069-FA0055ADB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67F-5B40-4B70-AE65-D46790F70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F5C9-1520-404D-8A83-C6E310F29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6CEB-9E3E-4D9A-B81B-566C6995C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4870-1542-4DAF-A097-5AE1F166C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B4E3-EF5E-4027-BB4D-EFE273BCA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98C-7C18-4561-9436-982E0BAE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FE5-E4D6-47F3-80AD-189F71E8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4A1-4970-4EE9-828B-888905DB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F9B-F13E-4887-BAF3-67041C2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720-44FB-4267-9EA8-3235D31A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D99-7C24-4E79-A71F-1692BD49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EA3-E0FD-464E-ABCC-E42BD05B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862-692A-4BFC-9D54-568D336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53D1-3C6F-4370-B2BD-54A2FC9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893B-34EB-4115-B1DA-CD20C0D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FDE-44BF-4321-B27B-1C9CB3F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1A8-EA28-4BA6-90BC-AC2E9A4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D74-0F2A-4CC7-B93A-AA5129F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99EC-1452-42F4-9643-9D0D2A1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0D1-FDD5-445F-AB31-5D5153D2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6CB-E425-41A3-B499-7AF252C0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0942-D588-4E99-9FB4-4D251401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D30-DA2E-4562-B36C-6F7FD9A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A89-4A8D-42D8-AE0B-E7B486E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319-AFAE-4C29-859C-BC84CB5B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E01-1C4D-45DA-BE44-15D5B19F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203-27AD-41F7-8A17-FC5676A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1DC-86BA-4BD4-9001-ED06E92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878-19A3-4568-9B1E-1CBA166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B5E-5C2F-498A-B8A0-03F36EE856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9CEA-A761-4441-8F12-9033D8D2C5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ctinvestorreporting.bnymellon.com/Home.jsp" TargetMode="External"/><Relationship Id="rId2" Type="http://schemas.openxmlformats.org/officeDocument/2006/relationships/hyperlink" Target="https://sf.citidirec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anniemae.com/loanlookup/" TargetMode="External"/><Relationship Id="rId2" Type="http://schemas.openxmlformats.org/officeDocument/2006/relationships/hyperlink" Target="https://ww3.freddiemac.com/corporate/" TargetMode="External"/><Relationship Id="rId3" Type="http://schemas.openxmlformats.org/officeDocument/2006/relationships/hyperlink" Target="https://www.mers-servicerid.org/si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.edgar-online.com/expandedsearch.aspx" TargetMode="External"/><Relationship Id="rId2" Type="http://schemas.openxmlformats.org/officeDocument/2006/relationships/hyperlink" Target="http://www.sec.gov/edgar/searchedgar/companysearch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DB2-44FB-41B8-A592-A677526D6D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369-42D2-4EBD-8E45-D38A13A39D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762120"/>
            <a:ext cx="82296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Latest Tools for Finding Out “Who Owns the Note?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Truth-in-Lending (TILA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  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Qualified Written Request (QWR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d Other Recent TILA and RESPA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to watch for entity inform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from servic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rsements and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davits filed with local recorder of d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losure notices and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ruptcy filings: Notice of Appearance, Proof of Claim, Lift Stay 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S ServicerI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C788-AF42-4DBC-AE90-FD8019FCEF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164-2832-4808-8142-1BC833D345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MBS INVESTOR REPORT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mittance reports filed by servicers to trustees or securities administrators monthly, generally at the end of each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ludes detailed information for each bond class as well as performance information of the loans backing the 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thly report includes pool- and loan-level data (indexed by loan number) for bankruptcies, foreclosures, REO inventory, liquidations/prepayments, realized losses, loan modifications.  Pool-level data for delinquencies also inclu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tailed monthly loan lists showing loans in each respective trust are filed by the servicer and are generally available from the applicable investor reporting entity at their web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B887-B8A4-4EE6-880B-0075F56E15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estor Reporting Sites: Trustees, Master Servicers and Securities Administrator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Bank of New York Mellon (includes deals where JPMorgan Chase was original trust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8398a"/>
                </a:solidFill>
                <a:uFillTx/>
                <a:latin typeface="Georgia"/>
                <a:hlinkClick r:id="rId1"/>
              </a:rPr>
              <a:t>https://gctinvestorreporting.bnymellon.com/Home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Citi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8398a"/>
                </a:solidFill>
                <a:uFillTx/>
                <a:latin typeface="Georgia"/>
                <a:hlinkClick r:id="rId2"/>
              </a:rPr>
              <a:t>https://sf.citidirect.com/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eutsche Bank National Trust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s://tss.sfs.db.com/investpublic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Salle Bank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://www.etrustee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U.S. Bank, N.A.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s://trustinvestorreporting.usbank.com/TIR/login.js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lls Fargo Bank, N.A. (login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ttp://www.ctslink.com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84E3-2966-4A07-9BA0-D6ABF2120A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to Find Public Securitization Docum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urities and Exchange Commission’s EDGAR database (free access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sec.gov/edgar/searchedgar/company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so can use EDGAR mirror sites (fee-based), e.g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10kwizar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edgaronl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pro.edgar-online.com/expandedsearch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8FA-B3FC-48F2-826A-F5731F2FED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Researching Loans Sold Into the Secondary Market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evin Byers, C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pbyers@bellsouth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427 Moreland Ave, #2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tlanta, GA  303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H: 404-525-400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E Loan Look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1"/>
              </a:rPr>
              <a:t>http://www.fanniemae.com/loanlooku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2"/>
              </a:rPr>
              <a:t>https://ww3.freddiemac.com/corpora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blic loan lookup available for Ginnie Mae securities (but can search MERS on FHA/VA case numbers or MI certificate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S ServicerID System (maintained by members so trust-level information not typically disclose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8398a"/>
                </a:solidFill>
                <a:uFillTx/>
                <a:latin typeface="Arial"/>
                <a:hlinkClick r:id="rId3"/>
              </a:rPr>
              <a:t>https://www.mers-servicerid.org/sis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81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6F84-C273-4DAE-9E22-AEEA438C81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rivate-label Securitiz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l Rule: if a loan wasn’t sold into a security by the end of 2007 it probably was not securitized in a private-label de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93760" indent="-2937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D28-2E9E-4C50-8B76-1D39B49AB5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Tools (cont’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 sponsors, Originator and entities purchasing their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 names and shel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servicer and successor servicer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riginator named in RMBS prospectus supplements?  Search filings at the following: </a:t>
            </a:r>
            <a:r>
              <a:rPr b="0" lang="en-US" sz="2400" spc="-1" strike="noStrike" u="sng">
                <a:solidFill>
                  <a:srgbClr val="18398a"/>
                </a:solidFill>
                <a:uFillTx/>
                <a:latin typeface="Arial"/>
                <a:hlinkClick r:id="rId1"/>
              </a:rPr>
              <a:t>http://pro.edgar-online.com/expandedsearch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424b5’s using narrow date ranges starting with the first few months after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n schedules filed with SEC: form FWP (Free Writing Prospectus) or 8-K as exhibit to Pooling and Servicing Agreement or Trust Agr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SEC filings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398a"/>
                </a:solidFill>
                <a:uFillTx/>
                <a:latin typeface="Arial"/>
                <a:hlinkClick r:id="rId2"/>
              </a:rPr>
              <a:t>http://www.sec.gov/edgar/searchedgar/companysearch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n-Level RMBS Research, September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BF6A-4847-4A57-91B3-4FAEF1162D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5F3-2DF5-4CD9-A3BC-2059DFACAD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inding PSA’s, etc. at sec.gov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0EC-9E05-4DE5-9347-E888B48A31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he PSA is an Exhibit to an early 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8-K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1974-8608-4A56-887E-ECCDE7A645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he PSA is a larged-sized Exhibi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7CB-3F6F-4294-A434-84BF10B669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ahoma"/>
              </a:rPr>
              <a:t>Typical Prospectus Supplemen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8288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4120" y="18288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380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See Handou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581280" y="1523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426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380880" y="52578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See also sections like “THE POOLING AND SERVICING AGREEMENT” and “ADMINISTRATION OF THE TRUST”.  These provide a plain-English summary of the parties, the transaction, and the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6:56:30Z</dcterms:created>
  <dc:creator>Kevin Byers</dc:creator>
  <dc:description/>
  <dc:language>en-US</dc:language>
  <cp:lastModifiedBy>user1</cp:lastModifiedBy>
  <dcterms:modified xsi:type="dcterms:W3CDTF">2011-02-15T16:32:00Z</dcterms:modified>
  <cp:revision>216</cp:revision>
  <dc:subject/>
  <dc:title>MORTGAGE SERVICING</dc:title>
</cp:coreProperties>
</file>